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8.jpeg" ContentType="image/jpeg"/>
  <Override PartName="/ppt/media/type.wav" ContentType="audio/x-wav"/>
  <Override PartName="/ppt/media/image14.png" ContentType="image/png"/>
  <Override PartName="/ppt/media/hammer.wav" ContentType="audio/x-wav"/>
  <Override PartName="/ppt/media/image20.png" ContentType="image/png"/>
  <Override PartName="/ppt/media/image12.jpeg" ContentType="image/jpeg"/>
  <Override PartName="/ppt/media/image4.png" ContentType="image/png"/>
  <Override PartName="/ppt/media/explode.wav" ContentType="audio/x-wav"/>
  <Override PartName="/ppt/media/wind.wav" ContentType="audio/x-wav"/>
  <Override PartName="/ppt/media/laser.wav" ContentType="audio/x-wav"/>
  <Override PartName="/ppt/media/image16.jpeg" ContentType="image/jpeg"/>
  <Override PartName="/ppt/media/chimes.wav" ContentType="audio/x-wav"/>
  <Override PartName="/ppt/media/image6.png" ContentType="image/png"/>
  <Override PartName="/ppt/media/push.wav" ContentType="audio/x-wav"/>
  <Override PartName="/ppt/media/arrow.wav" ContentType="audio/x-wav"/>
  <Override PartName="/ppt/media/image13.jpeg" ContentType="image/jpeg"/>
  <Override PartName="/ppt/media/image17.jpeg" ContentType="image/jpeg"/>
  <Override PartName="/ppt/media/image3.png" ContentType="image/png"/>
  <Override PartName="/ppt/media/image19.jpeg" ContentType="image/jpeg"/>
  <Override PartName="/ppt/media/image21.png" ContentType="image/png"/>
  <Override PartName="/ppt/media/suction.wav" ContentType="audio/x-wav"/>
  <Override PartName="/ppt/media/image2.png" ContentType="image/png"/>
  <Override PartName="/ppt/media/image5.png" ContentType="image/png"/>
  <Override PartName="/ppt/media/whoosh.wav" ContentType="audio/x-wav"/>
  <Override PartName="/ppt/media/voltage.wav" ContentType="audio/x-wav"/>
  <Override PartName="/ppt/media/image7.jpeg" ContentType="image/jpeg"/>
  <Override PartName="/ppt/media/image1.wmf" ContentType="image/x-wmf"/>
  <Override PartName="/ppt/media/click.wav" ContentType="audio/x-wav"/>
  <Override PartName="/ppt/media/image8.png" ContentType="image/png"/>
  <Override PartName="/ppt/media/coin.wav" ContentType="audio/x-wav"/>
  <Override PartName="/ppt/media/image9.jpeg" ContentType="image/jpeg"/>
  <Override PartName="/ppt/media/image11.jpeg" ContentType="image/jpeg"/>
  <Override PartName="/ppt/media/image10.png" ContentType="image/png"/>
  <Override PartName="/ppt/media/breeze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B83-E1AD-49AC-93FD-C3D81341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2BC-D3E6-4227-8FED-D251D27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892-43F9-481E-A61C-627ABE0B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C5C-F0D4-4247-A18A-E525A9EF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1F86-7856-4441-A0A6-474D532F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87C0-ED81-4FAF-AE31-E13E99A4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E0D2-8560-41C8-9647-F73FD66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851F-8B52-4FCE-A18A-5AA1533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BCF4-F087-4163-8DD7-D7D37901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B0B6-FB88-4275-AF17-F36B56A1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812A-2E82-467D-A8C3-15EA357D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0BE-BBA4-49EF-9F66-7C8D0752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7688-2805-401C-A356-3264A42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939-CBF3-4477-A9D4-086A7AA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DC81-B392-4292-BB1D-49583C93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652D-6B10-4E8C-9255-380A6081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94A0-A656-49C3-BC50-E90011E5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3E7-F91E-445B-BB39-224B852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E19-4267-4060-9B1D-25C25CAC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570-801B-413E-8AA9-63A054F2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A43-273E-4582-AFDF-F30EC397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5AA-C9CD-4E10-8448-C7B0E58E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5D4-DF78-42A5-B5F4-40FEBF3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AFE-1FE3-4207-9624-9925C5F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7F1-ABEB-4747-B56A-45416FBC046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0A7-B281-4077-B7AF-75AB041E2B3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audio" Target="../media/coin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ind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explode.wav"/><Relationship Id="rId4" Type="http://schemas.openxmlformats.org/officeDocument/2006/relationships/audio" Target="../media/hammer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audio" Target="../media/suction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audio" Target="../media/whoosh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oin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oin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reez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71280" y="1699920"/>
            <a:ext cx="63961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0b854"/>
                </a:solidFill>
                <a:latin typeface="Arial"/>
              </a:rPr>
              <a:t>كيف نسمـعُ الأصــــوات؟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3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7d47d"/>
                </a:solidFill>
                <a:latin typeface="Arial"/>
              </a:rPr>
              <a:t>الحشرات</a:t>
            </a:r>
            <a:endParaRPr b="0" lang="en-US" sz="8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04880" y="2205000"/>
            <a:ext cx="4622760" cy="363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7d47d"/>
                </a:solidFill>
                <a:latin typeface="Arial"/>
              </a:rPr>
              <a:t>الدلفين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7200720" cy="4873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hi-IN" sz="6600" spc="-1" strike="noStrike">
                <a:solidFill>
                  <a:srgbClr val="f7d47d"/>
                </a:solidFill>
                <a:latin typeface="Arial"/>
              </a:rPr>
              <a:t>مكونات الأذن</a:t>
            </a:r>
            <a:br>
              <a:rPr sz="8800"/>
            </a:b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483920"/>
            <a:ext cx="7386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r" rtl="1"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i-IN" sz="8800" spc="-1" strike="noStrike">
                <a:solidFill>
                  <a:srgbClr val="2f1311"/>
                </a:solidFill>
                <a:latin typeface="Arial"/>
              </a:rPr>
              <a:t>صِـيوان ُالأذنُ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133560" indent="-133560" algn="r" rtl="1">
              <a:spcBef>
                <a:spcPts val="2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f1311"/>
                </a:solidFill>
                <a:latin typeface="Arial"/>
              </a:rPr>
              <a:t> قناة ُ الأذنُ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133560" indent="-133560" algn="r" rtl="1">
              <a:spcBef>
                <a:spcPts val="2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f1311"/>
                </a:solidFill>
                <a:latin typeface="Arial"/>
              </a:rPr>
              <a:t> طبلة ُ الأذنُ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4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hi-IN" sz="9600" spc="-1" strike="noStrike">
                <a:solidFill>
                  <a:srgbClr val="2f1311"/>
                </a:solidFill>
                <a:latin typeface="Arial"/>
              </a:rPr>
              <a:t>الصيوانُ يجمع  الصوت .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2401"/>
              </a:spcBef>
              <a:buSzPct val="1028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0b854"/>
                </a:solidFill>
                <a:latin typeface="Arial"/>
              </a:rPr>
              <a:t> الطبلة ُ جلـــــد ٌ رقيقٌ ومشدودٌ عندما تهتزُ نسمع الصوت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wind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1" lang="hi-IN" sz="6000" spc="-1" strike="noStrike">
                <a:solidFill>
                  <a:srgbClr val="79af7d"/>
                </a:solidFill>
                <a:latin typeface="Arial"/>
              </a:rPr>
              <a:t>كيف أحافظ ُعلى سلامةِ أذني ؟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 احذرُ من وضع أشياء حادة في أذني 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2735280" cy="2567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227160"/>
            <a:ext cx="744516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i-IN" sz="4400" spc="-1" strike="noStrike">
                <a:solidFill>
                  <a:srgbClr val="f7d47d"/>
                </a:solidFill>
                <a:latin typeface="Arial"/>
              </a:rPr>
              <a:t>عندما نسمع أصوات مزعجة نضع أصابعنا في آذاننا .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3394080" cy="1901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68360" y="4149720"/>
            <a:ext cx="4535640" cy="1943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4920" y="1133280"/>
            <a:ext cx="71564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47d"/>
                </a:solidFill>
                <a:latin typeface="Arial"/>
              </a:rPr>
              <a:t> مراجــــــــــعة الطبيـــــب .</a:t>
            </a:r>
            <a:br>
              <a:rPr sz="6000"/>
            </a:br>
            <a:br>
              <a:rPr sz="6000"/>
            </a:br>
            <a:r>
              <a:rPr b="1" lang="hi-IN" sz="6000" spc="-1" strike="noStrike">
                <a:solidFill>
                  <a:srgbClr val="f7d47d"/>
                </a:solidFill>
                <a:latin typeface="Arial"/>
              </a:rPr>
              <a:t>المحافظة على نظافة الأذن 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hi-IN" sz="4800" spc="-1" strike="noStrike">
                <a:solidFill>
                  <a:srgbClr val="2f1311"/>
                </a:solidFill>
                <a:latin typeface="Arial"/>
              </a:rPr>
              <a:t>قال تعالى 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28116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    ((أم لهم آذانٌ يسمعون بها))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قال تعالى 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28116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     (( وهو السميع العليم ))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قال تعالى 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28116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  (( وإذا قرئ القــــــــرآن فاستمعوا له وأنصتوا لعلكم ترحمون) )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28116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4" name="suction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27160"/>
            <a:ext cx="71564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7d47d"/>
                </a:solidFill>
                <a:latin typeface="Arial"/>
              </a:rPr>
              <a:t>قال تعالى (( هو الذي  </a:t>
            </a:r>
            <a:br>
              <a:rPr sz="6000"/>
            </a:br>
            <a:r>
              <a:rPr b="0" lang="hi-IN" sz="6000" spc="-1" strike="noStrike">
                <a:solidFill>
                  <a:srgbClr val="f7d47d"/>
                </a:solidFill>
                <a:latin typeface="Arial"/>
              </a:rPr>
              <a:t>أنشأكم وجعل لكم السمع والأبصار والأفئدة قليلا ً ما تشكرون))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" dur="1" fill="hold"/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af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7d47d"/>
                </a:solidFill>
                <a:latin typeface="Arial"/>
              </a:rPr>
              <a:t>وظيفة الأذن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i-IN" sz="8800" spc="-1" strike="noStrike">
                <a:solidFill>
                  <a:srgbClr val="2f1311"/>
                </a:solidFill>
                <a:latin typeface="Arial"/>
              </a:rPr>
              <a:t>الإحساس بالصوتِ من حولنا أي 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f1311"/>
                </a:solidFill>
                <a:latin typeface="Arial"/>
              </a:rPr>
              <a:t>(( السمع ))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d4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7d47d"/>
                </a:solidFill>
                <a:latin typeface="Arial"/>
              </a:rPr>
              <a:t>اختلاف آذان الحيوانات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i-IN" sz="8800" spc="-1" strike="noStrike">
                <a:solidFill>
                  <a:srgbClr val="79af7d"/>
                </a:solidFill>
                <a:latin typeface="Arial"/>
              </a:rPr>
              <a:t>بعض الحيوانات لها آذان كبيرة  مثل  الأرنب .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coin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7d47d"/>
                </a:solidFill>
                <a:latin typeface="Arial"/>
              </a:rPr>
              <a:t>الأرنب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296120" cy="525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980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i-IN" sz="8000" spc="-1" strike="noStrike">
                <a:solidFill>
                  <a:srgbClr val="f0b854"/>
                </a:solidFill>
                <a:latin typeface="Arial"/>
              </a:rPr>
              <a:t>بعض الحيوانات لها آذان صغيرة مثل 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  <a:p>
            <a:pPr marL="3016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0b854"/>
                </a:solidFill>
                <a:latin typeface="Arial"/>
              </a:rPr>
              <a:t>القطة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  <a:p>
            <a:pPr marL="3016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  <a:p>
            <a:pPr marL="3016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coin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7d47d"/>
                </a:solidFill>
                <a:latin typeface="Arial"/>
              </a:rPr>
              <a:t>القطة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200720" cy="46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87" dur="3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4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i-IN" sz="8800" spc="-1" strike="noStrike">
                <a:solidFill>
                  <a:srgbClr val="f0b854"/>
                </a:solidFill>
                <a:latin typeface="Arial"/>
              </a:rPr>
              <a:t>بعض الحيوانات ليس لها آذان مثل الثعبان _ الدلفين 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breeze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7d47d"/>
                </a:solidFill>
                <a:latin typeface="Arial"/>
              </a:rPr>
              <a:t>الطيور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272360" cy="439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21:53:48Z</dcterms:created>
  <dc:creator>acer</dc:creator>
  <dc:description/>
  <dc:language>en-US</dc:language>
  <cp:lastModifiedBy>acer</cp:lastModifiedBy>
  <dcterms:modified xsi:type="dcterms:W3CDTF">2005-03-20T21:23:07Z</dcterms:modified>
  <cp:revision>6</cp:revision>
  <dc:subject/>
  <dc:title>كيف نسمع الأصوات</dc:title>
</cp:coreProperties>
</file>